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728A-C5CA-421F-9F7C-C2B775A85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C3B0-973E-4003-950C-66FCFD6EF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8B3E-6D77-4A96-A1FE-826A439F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D32-D518-426C-9F37-4B59259B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F587-A63B-483F-B68E-26A702B4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2A31-3A74-4BA0-BF5E-13A33BA3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5BA-BE52-436C-871C-B10E5089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C447-787F-48DC-8FAC-6C71BABB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3489-EB3D-4EFB-B3D1-5956C3A0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801C-0B2D-4364-853A-4C53E714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3D1-10ED-4808-ABC2-B3DCC407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3E63-76AF-4B73-86C8-189EA63C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3383-836E-4990-A6A2-24987A4B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B02-4F3D-46B0-98E6-2379B9EE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4681-D3AF-4075-B4F5-66C779104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abriela Rami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abriela Ramire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, mi nombre es Gabriela. Yo vivo en Nueva York. Tengo catorce años. Yo tengo seis hermanos. Yo soy calmada y am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 amiga. Como est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quieres comprar comida conmig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8:10Z</dcterms:modified>
  <cp:revision>103</cp:revision>
  <dc:subject/>
  <dc:title>Profile</dc:title>
</cp:coreProperties>
</file>